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483-A9D1-4D81-A350-FED658E4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F16E-79FD-47B3-AB8B-E2A08856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70B-7FE7-4F18-B98A-34905885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340C-44A5-42DC-B413-04484CE6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9E3F-6354-468C-BBBC-6400238C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CCF4-A6E5-45DE-8D6C-ACF49CDD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2436-EB69-4224-BE0E-BB03D81C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85D2-891C-450E-BF78-D2261399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4973-9FE5-4640-8551-BCE56903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B7C2-602C-49CF-A200-A5B009E0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A80A-F512-4D4D-9661-35F2BF70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36CC-8AF0-4ABA-9A7E-DD922D40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C847-F4EA-41DC-BED1-9E2AF8FD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E4F5-C4F6-4EBB-8002-BAB2A608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514F-51AF-4AE8-9E46-35C291B4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9AD4-97C3-4E82-AD13-D996F05D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EF41-68FD-42E3-BACE-F8595ACC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1879C-FBF2-4A28-B25D-C3254E22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276F0-CB13-49B0-9E37-93E4A1AE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B0469-52C2-4310-9747-0CDF0C84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D1E5A-5995-4C49-B799-F1E1CA19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DA8C3-1192-4014-91FF-38EB23F0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E97-5F41-4DBA-A1CD-BF5D235A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9BC94-2E6B-4778-A2D0-80290C02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558AA-DDCE-482C-BEF1-A327414F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22594-04CC-41BE-8A9B-3E7B1056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DC6ED-6686-4C7E-B42D-ACD8AB20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5D2C9-7CC5-4E56-84C5-92AA0632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4F991-5EA9-45BF-BE1E-956AFC86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165DC-3525-48A3-BBAF-86DA0615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7E29D-15AA-4BB8-B4F7-EE69ADD3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0C2E2-0B85-4A49-A181-BA8C36BD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ED1C5-C5A5-479D-938A-CF72478F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01FF-AEB4-452A-B285-E7D48328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E3323-0805-409E-AF4C-03371867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3C13E-CB52-4FC6-AD10-AD215DA8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D7C83-9815-48CE-BA7A-77DA304F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60992-5CF8-45DC-9245-613ACCFA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FD825-7679-4BB5-A2A4-F2E10A68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A3957-9FC0-4828-83FF-CE4E9F4D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FE5C6-A255-4DEC-A980-1AB12F67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7C495-55BF-4CE4-A965-C178FC36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1E7DD-7924-41BE-96EB-ED49C1A7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8ADA0-06E8-49DE-A939-38301F95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60CF-1656-41DB-BAC8-80F0E12B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1F26F-88CD-47AD-A9B4-162E2C5A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EE98A-EEA5-4DCB-9360-2FE2B25C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614A6-1E98-49D5-9A75-68420767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0A61E-6C79-4722-B92D-53319E34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F7A17-7CD0-4A55-9E27-FBD4123D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F0F32-C649-42BC-99D7-6A23A686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2B66E-0131-48AD-9239-F581EAA2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7AC57-EC1F-4D7F-982C-B5E96ED4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17F53-8DDF-4151-BD88-FE1E34D5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46FBD-134E-4286-94FA-1E3CA425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FAF-A822-42B2-8EE8-8EDA407E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6A348-F892-42D7-BAAC-320ECF05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6A293-6DBC-4D37-BAFD-F8909318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55ACC-699F-4191-A905-DA871728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7FAAA-CB4B-494D-8AB0-55716DA0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50D3C-78C1-457C-AD94-0E7B554B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B253D-3AB1-4D73-8040-0912284F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A7A34-378A-4930-B0EE-D35A9FE9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65596-CDE8-4646-976B-45A98CB6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80AE2-2007-4CE4-A767-9F25C35B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D5F36-BCF1-4630-B577-5D5512A2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C908-FCD3-466A-85AA-79E7B6A0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89262-57A2-4806-88C5-E4EA1BCA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3655C-A9E7-4BDA-ADDD-AFD9E13A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EBA63-80AA-4E09-98A2-1CC0DE15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FF2D9-ECDA-4657-800B-9BFBD287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1201B-FE76-4561-82DC-FB013472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273E2-EE9C-4949-92BB-84A5A158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F8AD8-71C4-447A-8AEE-CC578ACA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C5E8B-1333-4F90-9DFC-D6F35858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8A372-6D93-4FEE-95F2-AA28C5C6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12932-4116-4E60-9115-1BA291DF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630-A412-43F2-8CCE-76D0DBAA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AE981-2D81-4D43-A388-D13BB05D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6A616-F9C6-4811-ADA3-B4B15FA5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479F5-3806-4DCB-BA33-60C3F043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07CF2-D2C9-4403-8B7C-F66D8178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EEC66-E971-4879-95BE-4C8C84E9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6FD45-596F-48BC-90BD-D7333ABD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45A5B-50D3-4643-8C5A-9F99A5E1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9F7B8-8BFB-4BF0-BC56-FBE0D81E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230E6-20F3-4F61-8513-E94C1728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0F0BF-D9E5-4DD1-A709-C93E8FF1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A111-DC78-4460-8780-E8A1CDAE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CAEF8-1F9F-4744-BB21-30B751E5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D756D-B508-4FCF-BAE8-6FF50818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6CD20-D623-49FB-8AE5-AFA218AC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FAA5C-417D-4ED2-A1E4-38F25142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09FFC-3C8C-4FC2-A31E-F6115A30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F12A7-94A6-4A7E-A37B-779C249A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70F65-58D9-4962-9033-1095ED35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9CAF-9E8D-400A-B1D8-28BB5C2F41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3C56-B09C-4854-BB11-EDF517D90F4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4DD4-7CBB-42FC-A65A-50E092CE73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B679-C884-4D49-AC3C-14653A0ED1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0D89-277D-494D-AD8B-CF33DBE5CD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9636-D27D-44B4-8C45-26C60E1676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D40E-0188-4625-95E0-E992CB74412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EAC2-C504-4A00-878D-6368303DCC5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 was born on February 4, 1913 and died on October 24, 2005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 attended Montgomery Industrial School for Girls school as a child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 attended Alabama State Teachers College when I was olde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y greatest accomplishment, or what I was mostly known for i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lady that refused to sit in the back of the bu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other important accomplishment wa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he worked on numerous cases with the NAACP. Cases like rape, murder an others.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third important accomplishment wa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he had served on the staff of U.S. Representative John Conyer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he was the first American history to lie in state at the Capitol, an honor usually reserved for Presidents of the United State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 am  Rosa Park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Picture 3" descr="Rosa Parks.gif"/>
          <p:cNvPicPr/>
          <p:nvPr/>
        </p:nvPicPr>
        <p:blipFill>
          <a:blip r:embed="rId2"/>
          <a:stretch/>
        </p:blipFill>
        <p:spPr>
          <a:xfrm>
            <a:off x="2590920" y="3657600"/>
            <a:ext cx="2857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8:54:38Z</dcterms:created>
  <dc:creator> </dc:creator>
  <dc:description/>
  <dc:language>en-US</dc:language>
  <cp:lastModifiedBy> </cp:lastModifiedBy>
  <dcterms:modified xsi:type="dcterms:W3CDTF">2009-02-09T17:48:32Z</dcterms:modified>
  <cp:revision>10</cp:revision>
  <dc:subject/>
  <dc:title>Who Am I?</dc:title>
</cp:coreProperties>
</file>